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8381-A126-430E-8208-8CB464D2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DC59-8468-4757-BB64-B3EB850A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7BA0-3DC8-49B9-AF13-DD184F85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C4C7-DB4C-4083-B809-1DB64BDB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67CE-80D3-456D-B930-78D467DA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C249-9F49-46E3-BD03-B827CB89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B153-CA2E-4F26-98B2-A220E1E5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46AD-2D10-47AE-9904-3350FCA3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767E-8B9C-4CF8-9693-7784D61F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48D8-8EC5-457E-8649-56307369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B981-8C6D-4944-823C-167DF498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85D0-CE71-4ED8-920C-DE6BE551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8F39-59E8-47DE-9B29-72CA15DB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713D-8C31-4573-B072-21F65EB4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857E-259A-4CAF-95AA-5CE3CE80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0E1D-9468-49D0-8B44-643B6B55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B354-CC94-485B-871D-A07E05E4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400F4-2A52-48D0-9C3C-89E27960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78D8-7C97-4D1F-ABD1-1B88A73E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A1E0-B7E3-408F-AB49-E9C455D5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DE696-4709-46B2-855C-0AE8DC6E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652E-1992-4D23-BAC8-D3EF70AE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AFCFA-E2B8-418F-AB03-69C7E097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625C-836D-41FF-A74A-BB915107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CF0A-8091-4B44-B128-D0F7C7F3D0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F8B5-E040-4EC1-9C17-D51E4D1A17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Papyrus"/>
              </a:rPr>
              <a:t>JEFFERSON’S PRESIDENCY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pyrus"/>
              </a:rPr>
              <a:t>Expanding the Boundaries of the New N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228600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Lewis &amp; Clark Expediti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ps of Disco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Northwest Passage (water route to Pacific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ore Missouri Ri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udy plants &amp; anim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act peacefully with Native Americans, study their cul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ft St. Louis May 1804, returned 18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pt detailed journals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00400" y="762120"/>
            <a:ext cx="25336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pyrus"/>
              </a:rPr>
              <a:t>Lewis &amp; Clark Exped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40 men traveled up the Missouri Ri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reached North Dakota November 180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spent winter with Mandan India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set out in spring of 18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joined by French trapper, wife, &amp; ba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wife Sacagawea was Shoshone, became their guide (15 yrs ol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81280" y="4581360"/>
            <a:ext cx="2009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pyrus"/>
              </a:rPr>
              <a:t>Lewis &amp; Clark Exped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reached the Great Falls of the Missou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on to the Rocky M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obtained horses &amp; help crossing the mountains from the Shoshone (chief Sacagawea’s broth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followed Columbia River to Pacific Oce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spent winter 1805-6 on Pacific Coa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returned to St. Lou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brought back geographic &amp; scientific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their expedition sparked more interest in the W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25322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ages of the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ewis &amp; Clark Expedition: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ere &amp; How They Travel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556080" cy="2681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446640" cy="2705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8600" y="4343400"/>
            <a:ext cx="3446640" cy="229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191120" y="4343400"/>
            <a:ext cx="30715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ages of the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ewis &amp; Clark Expedition: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Missouri Rive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3162600" cy="2266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3281400" cy="2222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952880" y="1905120"/>
            <a:ext cx="3264120" cy="221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876920" y="4267080"/>
            <a:ext cx="34462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ages of the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ewis &amp; Clark Expedition: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Columbia River to the Pacific Ocea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373560" cy="276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3529080" cy="2825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523880" y="4267080"/>
            <a:ext cx="3446640" cy="2293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181480" y="4419720"/>
            <a:ext cx="36561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ages of the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ewis &amp; Clark Expedition: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The Rocky Mountai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446640" cy="2293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2860560" cy="2289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800600" y="4343400"/>
            <a:ext cx="34466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ages of the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ewis &amp; Clark Expedition: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Sacagawea (“Bird Woman”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pyrus"/>
              </a:rPr>
              <a:t>Election of 180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Why did Jefferson call it a “</a:t>
            </a: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revolution</a:t>
            </a: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?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Papyrus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 peaceful transfer of pow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emocratic-Republicans replaced Federali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Jefferson &amp; Burr tied 73 electoral vo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ecided by House of Represent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strong positive response by the peo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We are all Republicans, we are all Federalists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6174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Jefferson’s Program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An Agrarian Vi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apyrus"/>
              </a:rPr>
              <a:t>nation of independent farm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morals &amp; values associated with country l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abundant land so people had breathing sp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no need to crowd into c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apyrus"/>
              </a:rPr>
              <a:t>elevated the common m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with education people will make correct political decis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walked to his inaugu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ressed simp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ate at round tables so no one at he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2409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Jefferson’s Program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Changing the Role of Governmen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less power for the federal gover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apyrus"/>
              </a:rPr>
              <a:t>smaller government</a:t>
            </a: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 (less government officials &amp; smaller militar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apyrus"/>
              </a:rPr>
              <a:t>lower taxes</a:t>
            </a: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 (got rid of excise on whiske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reduced national debt (used tariffs &amp; land sal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allowed Alien &amp; Sedition Acts to expire; released those imprisoned under th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Defining the Role &amp; Powers of the Judiciar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Judiciary Act of 180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Adams packed courts with Federalist judges with “midnight appointment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Adams appointed John Marshall Chief Just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Marbury v. Madis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Judiciary Act unconstitutio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It is emphatically the province and duty of the Judicial Department to say what the law is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principle of judicial review establish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772400" y="4979880"/>
            <a:ext cx="13716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The “West” &amp; Beyond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land between Appalachian Mts &amp; Mississippi Riv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thousands settling the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Kentucky &amp; Tennessee states in 1800, Ohio 180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France &amp; Spain arguing over possession of Louisiana Territory (between Mississippi River &amp; Rocky M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Captain Robert Gray established US claims to Pacific Northwest 179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Russian &amp; English claims to Northw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Spain in Californ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838080"/>
            <a:ext cx="25146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Napoleon Changes His Mind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Spain gave Louisiana Territory back to France in 18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Napoleon planned to build North American emp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fighting the </a:t>
            </a: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slave revolt in Haiti</a:t>
            </a: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 depleted French re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France engaged in expensive war with Eng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Napoleon abandoned hopes of North American emp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good timing for Jeffers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The Louisiana Purchas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farmers &amp; merchants sent goods down Mississippi River to </a:t>
            </a: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New Orleans</a:t>
            </a: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 for shi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Spain closed New Orleans to Americans before turning it over to Fr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Western settlers wanted war against France &amp; Sp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Jefferson offered to buy New Orlea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Napoleon offered him </a:t>
            </a: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all of Louisiana Territ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00400" y="762120"/>
            <a:ext cx="269568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pyrus"/>
              </a:rPr>
              <a:t>Jefferson’s Dilem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apyrus"/>
              </a:rPr>
              <a:t>strict constructi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needed land to realize his vision of an America of far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justified purchase on basis of </a:t>
            </a:r>
            <a:r>
              <a:rPr b="1" lang="en-US" sz="3200" spc="-1" strike="noStrike">
                <a:solidFill>
                  <a:srgbClr val="ff0000"/>
                </a:solidFill>
                <a:latin typeface="Papyrus"/>
              </a:rPr>
              <a:t>national secu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April 30, 1803 Louisiana Territory part of Amer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$15 million (3 cents/acr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apyrus"/>
              </a:rPr>
              <a:t>doubled size of 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15000" y="4724280"/>
            <a:ext cx="2409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3:56:03Z</dcterms:created>
  <dc:creator>epilla</dc:creator>
  <dc:description/>
  <dc:language>en-US</dc:language>
  <cp:lastModifiedBy>epilla</cp:lastModifiedBy>
  <dcterms:modified xsi:type="dcterms:W3CDTF">2011-02-18T22:29:07Z</dcterms:modified>
  <cp:revision>13</cp:revision>
  <dc:subject/>
  <dc:title>THE REVOLUTION OF 1800 </dc:title>
</cp:coreProperties>
</file>